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4A9-A343-4C97-AC72-43B17329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52A-805D-4E79-92E8-4BDBD5CC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9BE5-836A-416F-BE2D-FBDBE4C34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0E87-2CED-4FF7-8066-AFDFD3A7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F1B8-A70E-42D8-A0C4-85CE4396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9DD-7F40-4633-A28F-16C20D04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91FB-52B0-4F15-B8AE-09E8334E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79E5-A4DB-4256-BCEE-13ABB84B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C538-0896-40D0-B343-119DE8137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89EB-1848-4F43-ADB5-37AC24A1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4480-54E8-40AC-8A89-41AE03F2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72F9-6FAD-4869-A5CB-D79AED4A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CD46-967F-42A5-899D-A12183F3E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492360" y="981000"/>
            <a:ext cx="374364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63640" y="966960"/>
            <a:ext cx="5832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908000" y="1123920"/>
            <a:ext cx="511200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54200" y="44280"/>
            <a:ext cx="7705440" cy="631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360" y="115920"/>
            <a:ext cx="799128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32000" y="1047600"/>
            <a:ext cx="648000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56908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8:36:21Z</dcterms:created>
  <dc:creator>admin</dc:creator>
  <dc:description/>
  <dc:language>en-US</dc:language>
  <cp:lastModifiedBy>eduardo paredes</cp:lastModifiedBy>
  <dcterms:modified xsi:type="dcterms:W3CDTF">2009-02-26T23:32:09Z</dcterms:modified>
  <cp:revision>3</cp:revision>
  <dc:subject/>
  <dc:title>Diapositiva 1</dc:title>
</cp:coreProperties>
</file>